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471-E014-46D1-98DC-1EC26D65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14A-138C-4B4F-B588-1914897D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27F-6A64-42EC-90D4-AD68496F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7A3-16ED-498C-A980-55EECF67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4AF-3A3F-4943-8A1C-E89EDB1A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5A1-FA52-463B-A40D-2C4CA92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CAF-0188-4AC0-88B6-BA783555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220-F0E7-4AFF-9E59-E3F6335C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9BB-767E-469E-9578-01BA6457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A97-2008-4BC3-874F-1685C13F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561-F266-4D43-A215-8845B287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A51-7F03-499E-83FA-C72AAE6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3EF6-11BF-43C9-BDA7-44490C65C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4:56:53Z</dcterms:created>
  <dc:creator>tatumadmin</dc:creator>
  <dc:description/>
  <dc:language>en-US</dc:language>
  <cp:lastModifiedBy>tatumadmin</cp:lastModifiedBy>
  <dcterms:modified xsi:type="dcterms:W3CDTF">2009-12-04T20:44:37Z</dcterms:modified>
  <cp:revision>1</cp:revision>
  <dc:subject/>
  <dc:title>Powerpoint </dc:title>
</cp:coreProperties>
</file>